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E73-8343-4A99-9CC2-591E0D47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9F0-9D32-4D13-B2F7-43F4E7C8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598-850A-49BB-BD08-A242A9C4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17E1-8634-4787-82F0-6BEFB9F6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430E-BC3C-4ED6-9712-D27F49DE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B3B0-B9E2-49AF-9469-04349837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F64C-8C53-47C6-8288-4E031BDA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E51-C042-4D62-9D86-F124052F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7BA0-AB79-41B1-9CF0-EAC894A8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B11-D2D0-4E2B-97BA-B1DFA92E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4752-0800-46C3-852D-B2EE5C2F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E18-4955-4758-B2BD-C35AC8A3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chite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chite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chite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chite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chite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chite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chite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chite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chitec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chite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chite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2940-4E66-4460-91D1-CC0A96974B57}" type="slidenum">
              <a:rPr b="0" lang="en-US" sz="1400" spc="-1" strike="noStrike">
                <a:solidFill>
                  <a:srgbClr val="000000"/>
                </a:solidFill>
                <a:latin typeface="Archite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3.xml"/><Relationship Id="rId3" Type="http://schemas.openxmlformats.org/officeDocument/2006/relationships/slide" Target="slide6.xml"/><Relationship Id="rId4" Type="http://schemas.openxmlformats.org/officeDocument/2006/relationships/slide" Target="slide12.xml"/><Relationship Id="rId5" Type="http://schemas.openxmlformats.org/officeDocument/2006/relationships/slide" Target="slide4.xml"/><Relationship Id="rId6" Type="http://schemas.openxmlformats.org/officeDocument/2006/relationships/slide" Target="slide3.xml"/><Relationship Id="rId7" Type="http://schemas.openxmlformats.org/officeDocument/2006/relationships/slide" Target="slide2.xml"/><Relationship Id="rId8" Type="http://schemas.openxmlformats.org/officeDocument/2006/relationships/slide" Target="slide11.xml"/><Relationship Id="rId9" Type="http://schemas.openxmlformats.org/officeDocument/2006/relationships/slide" Target="slide10.xml"/><Relationship Id="rId10" Type="http://schemas.openxmlformats.org/officeDocument/2006/relationships/slide" Target="slide9.xml"/><Relationship Id="rId11" Type="http://schemas.openxmlformats.org/officeDocument/2006/relationships/slide" Target="slide9.xml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" action="ppaction://hlinksldjump"/>
              </a:rPr>
              <a:t>Student 6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2" action="ppaction://hlinksldjump"/>
              </a:rPr>
              <a:t>Student 12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18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4" name=""/>
          <p:cNvSpPr/>
          <p:nvPr/>
        </p:nvSpPr>
        <p:spPr>
          <a:xfrm>
            <a:off x="68580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24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76920"/>
            <a:ext cx="2286000" cy="987480"/>
          </a:xfrm>
          <a:custGeom>
            <a:avLst/>
            <a:gdLst>
              <a:gd name="textAreaLeft" fmla="*/ 63720 w 2286000"/>
              <a:gd name="textAreaRight" fmla="*/ 2222280 w 2286000"/>
              <a:gd name="textAreaTop" fmla="*/ 63720 h 987480"/>
              <a:gd name="textAreaBottom" fmla="*/ 923760 h 987480"/>
            </a:gdLst>
            <a:ahLst/>
            <a:rect l="textAreaLeft" t="textAreaTop" r="textAreaRight" b="textAreaBottom"/>
            <a:pathLst>
              <a:path w="49993" h="21600">
                <a:moveTo>
                  <a:pt x="0" y="0"/>
                </a:moveTo>
                <a:lnTo>
                  <a:pt x="49993" y="0"/>
                </a:lnTo>
                <a:lnTo>
                  <a:pt x="49993" y="21600"/>
                </a:lnTo>
                <a:lnTo>
                  <a:pt x="0" y="21600"/>
                </a:lnTo>
                <a:close/>
              </a:path>
              <a:path fill="lightenLess" w="49993" h="21600">
                <a:moveTo>
                  <a:pt x="0" y="0"/>
                </a:moveTo>
                <a:lnTo>
                  <a:pt x="49993" y="0"/>
                </a:lnTo>
                <a:lnTo>
                  <a:pt x="48593" y="1400"/>
                </a:lnTo>
                <a:lnTo>
                  <a:pt x="1400" y="1400"/>
                </a:lnTo>
                <a:close/>
              </a:path>
              <a:path fill="darken" w="49993" h="21600">
                <a:moveTo>
                  <a:pt x="49993" y="0"/>
                </a:moveTo>
                <a:lnTo>
                  <a:pt x="49993" y="21600"/>
                </a:lnTo>
                <a:lnTo>
                  <a:pt x="48593" y="20200"/>
                </a:lnTo>
                <a:lnTo>
                  <a:pt x="48593" y="1400"/>
                </a:lnTo>
                <a:close/>
              </a:path>
              <a:path fill="darkenLess" w="49993" h="21600">
                <a:moveTo>
                  <a:pt x="49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93" y="20200"/>
                </a:lnTo>
                <a:close/>
              </a:path>
              <a:path fill="lighten" w="49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3" action="ppaction://hlinksldjump"/>
              </a:rPr>
              <a:t>Student 5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48769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4" action="ppaction://hlinksldjump"/>
              </a:rPr>
              <a:t>Student 11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48769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17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48769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23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8862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4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8954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5" action="ppaction://hlinksldjump"/>
              </a:rPr>
              <a:t>Student 3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05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6" action="ppaction://hlinksldjump"/>
              </a:rPr>
              <a:t>Student 2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14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7" action="ppaction://hlinksldjump"/>
              </a:rPr>
              <a:t>Student 1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38862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8" action="ppaction://hlinksldjump"/>
              </a:rPr>
              <a:t>Student 10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28954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9" action="ppaction://hlinksldjump"/>
              </a:rPr>
              <a:t>Student 9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5" name="">
            <a:hlinkClick r:id="rId10" action="ppaction://hlinksldjump"/>
          </p:cNvPr>
          <p:cNvSpPr/>
          <p:nvPr/>
        </p:nvSpPr>
        <p:spPr>
          <a:xfrm>
            <a:off x="2286000" y="1905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1" action="ppaction://hlinksldjump"/>
              </a:rPr>
              <a:t>Student 8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914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7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8862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16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8954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15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905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14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914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13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38862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22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28954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21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1905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20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914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19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52480" y="228600"/>
            <a:ext cx="581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ol Activiti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80773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8001000" y="563868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8229600" y="586728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10800" y="4738"/>
                </a:moveTo>
                <a:lnTo>
                  <a:pt x="13376" y="7349"/>
                </a:lnTo>
                <a:lnTo>
                  <a:pt x="13376" y="5608"/>
                </a:lnTo>
                <a:lnTo>
                  <a:pt x="15152" y="5608"/>
                </a:lnTo>
                <a:lnTo>
                  <a:pt x="15152" y="9125"/>
                </a:lnTo>
                <a:lnTo>
                  <a:pt x="17763" y="11701"/>
                </a:lnTo>
                <a:lnTo>
                  <a:pt x="16109" y="11701"/>
                </a:lnTo>
                <a:lnTo>
                  <a:pt x="16109" y="18890"/>
                </a:lnTo>
                <a:lnTo>
                  <a:pt x="5491" y="18890"/>
                </a:lnTo>
                <a:lnTo>
                  <a:pt x="5491" y="11701"/>
                </a:lnTo>
                <a:lnTo>
                  <a:pt x="3837" y="11701"/>
                </a:lnTo>
                <a:close/>
              </a:path>
              <a:path fill="darkenLess" w="21600" h="23402">
                <a:moveTo>
                  <a:pt x="13376" y="7349"/>
                </a:moveTo>
                <a:lnTo>
                  <a:pt x="13376" y="5608"/>
                </a:lnTo>
                <a:lnTo>
                  <a:pt x="15152" y="5608"/>
                </a:lnTo>
                <a:lnTo>
                  <a:pt x="15152" y="9125"/>
                </a:lnTo>
                <a:close/>
              </a:path>
              <a:path fill="darkenLess" w="21600" h="23402">
                <a:moveTo>
                  <a:pt x="9877" y="15200"/>
                </a:moveTo>
                <a:lnTo>
                  <a:pt x="11723" y="15200"/>
                </a:lnTo>
                <a:lnTo>
                  <a:pt x="11723" y="18890"/>
                </a:lnTo>
                <a:lnTo>
                  <a:pt x="16109" y="18890"/>
                </a:lnTo>
                <a:lnTo>
                  <a:pt x="16109" y="11701"/>
                </a:lnTo>
                <a:lnTo>
                  <a:pt x="5491" y="11701"/>
                </a:lnTo>
                <a:lnTo>
                  <a:pt x="5491" y="18890"/>
                </a:lnTo>
                <a:lnTo>
                  <a:pt x="9877" y="1889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830592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80" name=""/>
          <p:cNvSpPr/>
          <p:nvPr/>
        </p:nvSpPr>
        <p:spPr>
          <a:xfrm>
            <a:off x="4479840" y="440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82" name=""/>
          <p:cNvSpPr/>
          <p:nvPr/>
        </p:nvSpPr>
        <p:spPr>
          <a:xfrm>
            <a:off x="4479840" y="440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8223120" y="5943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7924680" y="58672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10800" y="5038"/>
                </a:moveTo>
                <a:lnTo>
                  <a:pt x="13376" y="7649"/>
                </a:ln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lnTo>
                  <a:pt x="17763" y="12001"/>
                </a:lnTo>
                <a:lnTo>
                  <a:pt x="16109" y="12001"/>
                </a:lnTo>
                <a:lnTo>
                  <a:pt x="16109" y="19191"/>
                </a:lnTo>
                <a:lnTo>
                  <a:pt x="5491" y="19191"/>
                </a:lnTo>
                <a:lnTo>
                  <a:pt x="5491" y="12001"/>
                </a:lnTo>
                <a:lnTo>
                  <a:pt x="3837" y="12001"/>
                </a:lnTo>
                <a:close/>
              </a:path>
              <a:path fill="darkenLess" w="21600" h="24003">
                <a:moveTo>
                  <a:pt x="13376" y="7649"/>
                </a:move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close/>
              </a:path>
              <a:path fill="darkenLess" w="21600" h="24003">
                <a:moveTo>
                  <a:pt x="9877" y="15500"/>
                </a:moveTo>
                <a:lnTo>
                  <a:pt x="11723" y="15500"/>
                </a:lnTo>
                <a:lnTo>
                  <a:pt x="11723" y="19191"/>
                </a:lnTo>
                <a:lnTo>
                  <a:pt x="16109" y="19191"/>
                </a:lnTo>
                <a:lnTo>
                  <a:pt x="16109" y="12001"/>
                </a:lnTo>
                <a:lnTo>
                  <a:pt x="5491" y="12001"/>
                </a:lnTo>
                <a:lnTo>
                  <a:pt x="5491" y="19191"/>
                </a:lnTo>
                <a:lnTo>
                  <a:pt x="9877" y="19191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8229600" y="5943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7924680" y="58672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12957" y="3837"/>
                </a:moveTo>
                <a:lnTo>
                  <a:pt x="15533" y="6448"/>
                </a:ln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lnTo>
                  <a:pt x="19920" y="10800"/>
                </a:lnTo>
                <a:lnTo>
                  <a:pt x="18266" y="10800"/>
                </a:lnTo>
                <a:lnTo>
                  <a:pt x="18266" y="17989"/>
                </a:lnTo>
                <a:lnTo>
                  <a:pt x="7648" y="17989"/>
                </a:lnTo>
                <a:lnTo>
                  <a:pt x="7648" y="10800"/>
                </a:lnTo>
                <a:lnTo>
                  <a:pt x="5994" y="10800"/>
                </a:lnTo>
                <a:close/>
              </a:path>
              <a:path fill="darkenLess" w="25914" h="21600">
                <a:moveTo>
                  <a:pt x="15533" y="6448"/>
                </a:move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close/>
              </a:path>
              <a:path fill="darkenLess" w="25914" h="21600">
                <a:moveTo>
                  <a:pt x="12034" y="14299"/>
                </a:moveTo>
                <a:lnTo>
                  <a:pt x="13880" y="14299"/>
                </a:lnTo>
                <a:lnTo>
                  <a:pt x="13880" y="17989"/>
                </a:lnTo>
                <a:lnTo>
                  <a:pt x="18266" y="17989"/>
                </a:lnTo>
                <a:lnTo>
                  <a:pt x="18266" y="10800"/>
                </a:lnTo>
                <a:lnTo>
                  <a:pt x="7648" y="10800"/>
                </a:lnTo>
                <a:lnTo>
                  <a:pt x="7648" y="17989"/>
                </a:lnTo>
                <a:lnTo>
                  <a:pt x="12034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8153280" y="5867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7848720" y="54864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10800" y="5038"/>
                </a:moveTo>
                <a:lnTo>
                  <a:pt x="13376" y="7649"/>
                </a:ln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lnTo>
                  <a:pt x="17763" y="12001"/>
                </a:lnTo>
                <a:lnTo>
                  <a:pt x="16109" y="12001"/>
                </a:lnTo>
                <a:lnTo>
                  <a:pt x="16109" y="19191"/>
                </a:lnTo>
                <a:lnTo>
                  <a:pt x="5491" y="19191"/>
                </a:lnTo>
                <a:lnTo>
                  <a:pt x="5491" y="12001"/>
                </a:lnTo>
                <a:lnTo>
                  <a:pt x="3837" y="12001"/>
                </a:lnTo>
                <a:close/>
              </a:path>
              <a:path fill="darkenLess" w="21600" h="24003">
                <a:moveTo>
                  <a:pt x="13376" y="7649"/>
                </a:move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close/>
              </a:path>
              <a:path fill="darkenLess" w="21600" h="24003">
                <a:moveTo>
                  <a:pt x="9877" y="15500"/>
                </a:moveTo>
                <a:lnTo>
                  <a:pt x="11723" y="15500"/>
                </a:lnTo>
                <a:lnTo>
                  <a:pt x="11723" y="19191"/>
                </a:lnTo>
                <a:lnTo>
                  <a:pt x="16109" y="19191"/>
                </a:lnTo>
                <a:lnTo>
                  <a:pt x="16109" y="12001"/>
                </a:lnTo>
                <a:lnTo>
                  <a:pt x="5491" y="12001"/>
                </a:lnTo>
                <a:lnTo>
                  <a:pt x="5491" y="19191"/>
                </a:lnTo>
                <a:lnTo>
                  <a:pt x="9877" y="19191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>
            <a:hlinkClick r:id="" action="ppaction://hlinkshowjump?jump=firstslide"/>
          </p:cNvPr>
          <p:cNvSpPr/>
          <p:nvPr/>
        </p:nvSpPr>
        <p:spPr>
          <a:xfrm>
            <a:off x="7924680" y="58672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13291" y="3837"/>
                </a:moveTo>
                <a:lnTo>
                  <a:pt x="15867" y="6448"/>
                </a:ln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lnTo>
                  <a:pt x="20254" y="10800"/>
                </a:lnTo>
                <a:lnTo>
                  <a:pt x="18600" y="10800"/>
                </a:lnTo>
                <a:lnTo>
                  <a:pt x="18600" y="17989"/>
                </a:lnTo>
                <a:lnTo>
                  <a:pt x="7982" y="17989"/>
                </a:lnTo>
                <a:lnTo>
                  <a:pt x="7982" y="10800"/>
                </a:lnTo>
                <a:lnTo>
                  <a:pt x="6328" y="10800"/>
                </a:lnTo>
                <a:close/>
              </a:path>
              <a:path fill="darkenLess" w="26582" h="21600">
                <a:moveTo>
                  <a:pt x="15867" y="6448"/>
                </a:move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close/>
              </a:path>
              <a:path fill="darkenLess" w="26582" h="21600">
                <a:moveTo>
                  <a:pt x="12369" y="14299"/>
                </a:moveTo>
                <a:lnTo>
                  <a:pt x="14214" y="14299"/>
                </a:lnTo>
                <a:lnTo>
                  <a:pt x="14214" y="17989"/>
                </a:lnTo>
                <a:lnTo>
                  <a:pt x="18600" y="17989"/>
                </a:lnTo>
                <a:lnTo>
                  <a:pt x="18600" y="10800"/>
                </a:lnTo>
                <a:lnTo>
                  <a:pt x="7982" y="10800"/>
                </a:lnTo>
                <a:lnTo>
                  <a:pt x="7982" y="17989"/>
                </a:lnTo>
                <a:lnTo>
                  <a:pt x="12369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0:57:16Z</dcterms:created>
  <dc:creator>Michelle Johnson</dc:creator>
  <dc:description/>
  <dc:language>en-US</dc:language>
  <cp:lastModifiedBy>Staff</cp:lastModifiedBy>
  <dcterms:modified xsi:type="dcterms:W3CDTF">2003-07-02T12:18:02Z</dcterms:modified>
  <cp:revision>66</cp:revision>
  <dc:subject/>
  <dc:title>No Slide Title</dc:title>
</cp:coreProperties>
</file>